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4E9-0F11-4B98-8E5E-D00F0BF5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41A-4E74-47CF-823A-9EAF4B70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5E0-869A-4447-9AFC-A2752B23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47E-7A06-4F17-952D-19B504D0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5C06-C4DD-424E-9CC3-096E4F23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C5F9-8FD1-4F8D-93C0-4A3DF95E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A3AD-1C07-4D6E-8869-1BDB8823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0B8B-D67F-4125-879A-44355C82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E937-8949-4C2A-AD7A-8D6C9119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4435-1A5A-4C4B-A59B-1748F702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48E1-455C-4703-828D-42869C29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CC5-4E4E-491E-A302-7043372F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985C-46F6-4B8C-9964-3A510EF0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331A-778B-445D-804A-66E5FC11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C62E-612C-4026-90D3-E4A75A2D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0ABB-D54F-45FD-87CA-96EE34B7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DD45-BD67-4744-9205-47A87CCE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086-7A88-44AC-AB3E-022498B9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1366-D724-41E2-9DA6-BF0FAB5F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535-9E02-4205-84A1-F480B9DB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948-3D09-41A7-8547-6CD0EC2D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53D-AE2D-4871-8539-030383E7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C10-48D0-4629-8347-2A9967FE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11F-86F2-4BD5-A480-301CEEEF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493E-8CE9-4C7E-ACFC-EE802E5169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BB89-DF17-4AE9-A938-0BDBB18AB9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Ku Klux Klan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err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at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tri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0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History of the klan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e Klan was lead by a former confederate general named Nathaniel Bedford For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s old version of the klan used terrorist tactics to intimidate former sl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 new version of the KKK came about in the early 19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e klan has many rituals that are still preformed tod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790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What  the KKK i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752480"/>
            <a:ext cx="83059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he klan is a terrorist group  that came about to terrorize other ethnical group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hey are all white Americans  who believed in a pure primary ra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hey also believed that  they were doing the right thing by eliminating the “problem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619440" cy="3619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How  the Klan came to powe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00cc"/>
                </a:solidFill>
                <a:latin typeface="Arial"/>
              </a:rPr>
              <a:t>The klan came to power because of the growing immigration popul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00cc"/>
                </a:solidFill>
                <a:latin typeface="Arial"/>
              </a:rPr>
              <a:t>They also were rising because most of the new members were born into it there ancestors were old  klans memb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933720" cy="2952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targets and the goal of the kla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Roman Catholics, Jews ,African Americans and foreigners were the most obvious targets of the kla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The goal of the klan was to “purify” the nation of   all non-American  Christian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62120" y="1933560"/>
            <a:ext cx="401976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her inform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After the world war 1 the klan was 3 million strong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Many of the 3 million were small business owners, independent professionals , clerical workers and farm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uring the early 1920 the klan helped elect 16 U.S. sen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the Ku  Klux Klan believed that they are defenders of prohibition, traditional morality an true Americanis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6058080" cy="4600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Other information conti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990000"/>
                </a:solidFill>
                <a:latin typeface="Arial"/>
              </a:rPr>
              <a:t>the klan claimed to control 24 of the nations 48 state legislature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5:25:25Z</dcterms:created>
  <dc:creator>TECH</dc:creator>
  <dc:description/>
  <dc:language>en-US</dc:language>
  <cp:lastModifiedBy>ASD</cp:lastModifiedBy>
  <dcterms:modified xsi:type="dcterms:W3CDTF">2010-06-22T21:11:02Z</dcterms:modified>
  <cp:revision>4</cp:revision>
  <dc:subject/>
  <dc:title>Ku Klux Klan</dc:title>
</cp:coreProperties>
</file>